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8221-B95C-497E-B51F-8172FD9C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3BEE-581A-4DD2-A66F-C6281B52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203-417D-4648-9993-C57698A4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EE4E-5EEB-4AFB-886F-739DE9D1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3C3-9581-438E-B6A9-0802A659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CC4-6A82-4C15-9D9A-0A0F711C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7EE1-7E65-4C3B-AFE7-4BA99FFB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C2B-002F-4817-A6AC-8B0DE633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7CF-6E9F-41E4-8DE8-B31FE86D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EE4B-9220-438C-81FF-28C1860C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ABA-54A8-4206-A9E5-F3367770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DF9B-7B28-4188-83A6-678A2CEB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A67A-2299-4972-8988-825E8D046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4.bp.blogspot.com/_OG3i1o1f67E/Rb4F2xYkssI/AAAAAAAAAAw/xhyAvgBTH30/s320/cswlogo.jpg&amp;imgrefurl=http://proecclesia.blogspot.com/2007_01_01_archive.html&amp;usg=__DvdUY6ev_sjD_pu7DmtRNVckZz4=&amp;h=129&amp;w=250&amp;sz=47&amp;hl=en&amp;start=46&amp;um=1&amp;tbnid=FV6leYUWqXudSM:&amp;tbnh=57&amp;tbnw=111&amp;prev=/images%3Fq%3Dcatholic%2Bschools%2Bweek%2Bposters%26ndsp%3D20%26hl%3Den%26rls%3Dcom.microsoft:en-us%26sa%3DN%26start%3D40%26um%3D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Catholic </a:t>
            </a: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Schools</a:t>
            </a: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 Wee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ebruary 1 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0" y="3809880"/>
            <a:ext cx="176544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1852560" cy="240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05320" y="4114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er Con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Catholic Schools Week"/>
          <p:cNvPicPr/>
          <p:nvPr/>
        </p:nvPicPr>
        <p:blipFill>
          <a:blip r:embed="rId1"/>
          <a:stretch/>
        </p:blipFill>
        <p:spPr>
          <a:xfrm>
            <a:off x="228600" y="2057400"/>
            <a:ext cx="85536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1477800"/>
            <a:ext cx="472428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614520"/>
            <a:ext cx="6705360" cy="59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306440"/>
            <a:ext cx="830592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1600" y="114480"/>
            <a:ext cx="647712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977760"/>
            <a:ext cx="5715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890640"/>
            <a:ext cx="708660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523800"/>
            <a:ext cx="58672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2216160"/>
            <a:ext cx="487692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66880" y="914400"/>
            <a:ext cx="3778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9:48:35Z</dcterms:created>
  <dc:creator>Patrick J. Mooney</dc:creator>
  <dc:description/>
  <dc:language>en-US</dc:language>
  <cp:lastModifiedBy>Patrick J. Mooney</cp:lastModifiedBy>
  <dcterms:modified xsi:type="dcterms:W3CDTF">2010-01-25T21:09:23Z</dcterms:modified>
  <cp:revision>4</cp:revision>
  <dc:subject/>
  <dc:title>Slide 1</dc:title>
</cp:coreProperties>
</file>